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F57-94CD-4336-BE72-50856208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B80-A59A-4091-BF45-563A4BDD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E20-A93A-4D53-95EE-49676AD8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746-2EB9-427C-9360-2A378F83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3F7-53A7-45E2-84B8-8AADF13F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357-23F1-4DC8-84DC-90DB376A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76A-CFF5-45C7-9191-5204D006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0B3-4B85-4B26-A6DF-044FE8D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69D-D0E3-4CC2-9473-5646522D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A09-8CE6-485F-B081-66A2273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038-7B2C-47E4-9587-1F89053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1E9-06DF-4157-832B-7DB2DCB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544A-D696-4476-B7D3-558A4C47F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57150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 SURE YOUR WORK IS WORTHY OF EXTRA-CREDI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4:21:59Z</dcterms:created>
  <dc:creator>gehadde</dc:creator>
  <dc:description/>
  <dc:language>en-US</dc:language>
  <cp:lastModifiedBy>gehadde</cp:lastModifiedBy>
  <dcterms:modified xsi:type="dcterms:W3CDTF">2012-02-17T14:22:29Z</dcterms:modified>
  <cp:revision>1</cp:revision>
  <dc:subject/>
  <dc:title>Slide 1</dc:title>
</cp:coreProperties>
</file>